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4.jpeg" ContentType="image/jpeg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3.jpeg" ContentType="image/jpeg"/>
  <Override PartName="/ppt/media/image10.jpeg" ContentType="image/jpeg"/>
  <Override PartName="/ppt/media/image8.jpeg" ContentType="image/jpe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664325" cy="9802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63600" cy="980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887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4960" y="-360"/>
            <a:ext cx="288792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3A868-1300-46D1-ACDF-4AFA0359E0EA}" type="datetime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80920" y="734760"/>
            <a:ext cx="4902480" cy="367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88480" y="4656240"/>
            <a:ext cx="488484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311760"/>
            <a:ext cx="2887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4960" y="9311760"/>
            <a:ext cx="288792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BCDFE-D2FE-4F42-A552-44F65158AA27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3774960" y="9311760"/>
            <a:ext cx="288792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60A9A-0471-438F-ABB5-78FCD209D446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9311760"/>
            <a:ext cx="2887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-360" y="-360"/>
            <a:ext cx="2887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774960" y="-360"/>
            <a:ext cx="288792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A9ED3-060D-4881-8B72-06A179BAE333}" type="datetime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880920" y="735120"/>
            <a:ext cx="4902480" cy="367668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66720" y="4656240"/>
            <a:ext cx="532944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EE47F-AAA7-438A-8F21-BA737A87E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25B54-17ED-4379-8A7B-984B9B49A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D6204-98A9-45AC-B233-6803C3FA1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E5FEB-68AF-4AAE-B860-F3C43B967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1D868-BDBF-4623-BE1A-60F63F195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5D8D2-BD7B-41F8-B1FF-8BE280B7F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B71F4-EEB6-4F00-A561-542555FA0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354E4-A6EE-4AE2-9A6D-26C523CAD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1F03B-6D70-4CA0-9703-3C92F1194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6F971-3978-4AE9-85F9-4F169E3D0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CD9B6-DF63-4C7A-AEBE-57ED33228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4B595-0EBC-4780-B5DE-60D783941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878EE-56C8-404C-8922-7647555BA75A}" type="datetime">
              <a:rPr b="1" lang="en-GB" sz="1200" spc="-1" strike="noStrike">
                <a:solidFill>
                  <a:srgbClr val="ffffff"/>
                </a:solidFill>
                <a:latin typeface="Times New Roman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09320" y="6553080"/>
            <a:ext cx="5334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1028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15965-C0F9-4B5D-847B-AB0A69D0850B}" type="slidenum">
              <a:rPr b="1" lang="it-IT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2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23960" y="336528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00"/>
                </a:solidFill>
                <a:latin typeface="Arial"/>
              </a:rPr>
              <a:t>Extracted from</a:t>
            </a:r>
            <a:br>
              <a:rPr sz="3200"/>
            </a:br>
            <a:r>
              <a:rPr b="0" lang="it-IT" sz="32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200"/>
            </a:br>
            <a:r>
              <a:rPr b="0" lang="it-IT" sz="3200" spc="-1" strike="noStrike">
                <a:solidFill>
                  <a:srgbClr val="ffff00"/>
                </a:solidFill>
                <a:latin typeface="Arial"/>
              </a:rPr>
              <a:t>FAI  Amateur-built and Experimental Aircraft Commission  -  CIACA</a:t>
            </a:r>
            <a:br>
              <a:rPr sz="3200"/>
            </a:br>
            <a:br>
              <a:rPr sz="36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4800600"/>
            <a:ext cx="78487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00"/>
                </a:solidFill>
                <a:latin typeface="Arial"/>
              </a:rPr>
              <a:t>31st Plenary Mee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00"/>
                </a:solidFill>
                <a:latin typeface="Arial"/>
              </a:rPr>
              <a:t>Paris ,  Aero Club de Fr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00"/>
                </a:solidFill>
                <a:latin typeface="Arial"/>
              </a:rPr>
              <a:t>March 31st, 200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108000" y="189000"/>
          <a:ext cx="8926560" cy="5976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000" y="189000"/>
                    <a:ext cx="8926560" cy="59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ACA FAI 31st Plenary meeting 200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0A14F-A4E8-4E9F-B932-D61DD17505D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0B13AF-8E68-4604-83AA-E02C3303EC3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851280" y="1700280"/>
            <a:ext cx="2189160" cy="25207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132000" y="4365720"/>
            <a:ext cx="4162680" cy="21636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227640" y="2567160"/>
            <a:ext cx="2541600" cy="17222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79280" y="189000"/>
            <a:ext cx="7921800" cy="16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00"/>
                </a:solidFill>
                <a:latin typeface="Times New Roman"/>
              </a:rPr>
              <a:t>FAI Gold Air Medal to Jon JOHANSON (Australi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ffff00"/>
                </a:solidFill>
                <a:latin typeface="Times New Roman"/>
              </a:rPr>
              <a:t>three times round the world (1995,1996,20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ffff00"/>
                </a:solidFill>
                <a:latin typeface="Times New Roman"/>
              </a:rPr>
              <a:t>both po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08000" y="3092400"/>
            <a:ext cx="392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00"/>
                </a:solidFill>
                <a:latin typeface="Times New Roman"/>
              </a:rPr>
              <a:t>www.vansaircraft.com/public/jj-persn.ht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ACA FAI 31st Plenary meeting 200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5A465-8689-4FAA-ADA9-487A3C127186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424E35-D74F-497E-9025-42912049FC3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39640" y="6669000"/>
            <a:ext cx="7561440" cy="0"/>
          </a:xfrm>
          <a:prstGeom prst="line">
            <a:avLst/>
          </a:prstGeom>
          <a:ln w="9360">
            <a:solidFill>
              <a:srgbClr val="a28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675640" y="6669000"/>
            <a:ext cx="217440" cy="0"/>
          </a:xfrm>
          <a:prstGeom prst="line">
            <a:avLst/>
          </a:prstGeom>
          <a:ln w="9360">
            <a:solidFill>
              <a:srgbClr val="a28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4000" y="1701720"/>
            <a:ext cx="849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8101080" y="6165720"/>
            <a:ext cx="596880" cy="6494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24000" y="0"/>
            <a:ext cx="7848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Times New Roman"/>
              </a:rPr>
              <a:t>« The High Flyers Night 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549360"/>
            <a:ext cx="835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600" spc="-1" strike="noStrike">
                <a:solidFill>
                  <a:srgbClr val="ffffff"/>
                </a:solidFill>
                <a:latin typeface="Arial"/>
              </a:rPr>
              <a:t>Paris, Palais du Luxembourg, 14 October 2005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464000" y="2033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709640" y="2216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927840" y="193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777000" y="1033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43_High Flyers_m" descr=""/>
          <p:cNvPicPr/>
          <p:nvPr/>
        </p:nvPicPr>
        <p:blipFill>
          <a:blip r:embed="rId2"/>
          <a:stretch/>
        </p:blipFill>
        <p:spPr>
          <a:xfrm>
            <a:off x="2195640" y="884160"/>
            <a:ext cx="5184720" cy="3456000"/>
          </a:xfrm>
          <a:prstGeom prst="rect">
            <a:avLst/>
          </a:prstGeom>
          <a:ln w="0">
            <a:noFill/>
          </a:ln>
        </p:spPr>
      </p:pic>
      <p:grpSp>
        <p:nvGrpSpPr>
          <p:cNvPr id="68" name=""/>
          <p:cNvGrpSpPr/>
          <p:nvPr/>
        </p:nvGrpSpPr>
        <p:grpSpPr>
          <a:xfrm>
            <a:off x="250920" y="4581360"/>
            <a:ext cx="2128680" cy="1634400"/>
            <a:chOff x="250920" y="4581360"/>
            <a:chExt cx="2128680" cy="1634400"/>
          </a:xfrm>
        </p:grpSpPr>
        <p:pic>
          <p:nvPicPr>
            <p:cNvPr id="69" name="42_High Flyers_m" descr=""/>
            <p:cNvPicPr/>
            <p:nvPr/>
          </p:nvPicPr>
          <p:blipFill>
            <a:blip r:embed="rId3"/>
            <a:stretch/>
          </p:blipFill>
          <p:spPr>
            <a:xfrm>
              <a:off x="322200" y="4581360"/>
              <a:ext cx="205740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250920" y="5878440"/>
              <a:ext cx="1081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1200" spc="-1" strike="noStrike">
                  <a:solidFill>
                    <a:srgbClr val="ffffff"/>
                  </a:solidFill>
                  <a:latin typeface="Arial"/>
                </a:rPr>
                <a:t>Buzz Aldrin</a:t>
              </a:r>
              <a:r>
                <a:rPr b="0" lang="fr-CH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" name=""/>
          <p:cNvGrpSpPr/>
          <p:nvPr/>
        </p:nvGrpSpPr>
        <p:grpSpPr>
          <a:xfrm>
            <a:off x="3598920" y="4437000"/>
            <a:ext cx="1944720" cy="2210400"/>
            <a:chOff x="3598920" y="4437000"/>
            <a:chExt cx="1944720" cy="2210400"/>
          </a:xfrm>
        </p:grpSpPr>
        <p:pic>
          <p:nvPicPr>
            <p:cNvPr id="72" name="40_Centenary Medal_m" descr=""/>
            <p:cNvPicPr/>
            <p:nvPr/>
          </p:nvPicPr>
          <p:blipFill>
            <a:blip r:embed="rId4"/>
            <a:stretch/>
          </p:blipFill>
          <p:spPr>
            <a:xfrm>
              <a:off x="3888000" y="4437000"/>
              <a:ext cx="1314360" cy="197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"/>
            <p:cNvSpPr/>
            <p:nvPr/>
          </p:nvSpPr>
          <p:spPr>
            <a:xfrm>
              <a:off x="3598920" y="6310080"/>
              <a:ext cx="1944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1200" spc="-1" strike="noStrike">
                  <a:solidFill>
                    <a:srgbClr val="ffffff"/>
                  </a:solidFill>
                  <a:latin typeface="Arial"/>
                </a:rPr>
                <a:t>FAI Centenary Medal</a:t>
              </a:r>
              <a:r>
                <a:rPr b="0" lang="fr-CH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443640" y="4581360"/>
            <a:ext cx="2449440" cy="1634400"/>
            <a:chOff x="6443640" y="4581360"/>
            <a:chExt cx="2449440" cy="1634400"/>
          </a:xfrm>
        </p:grpSpPr>
        <p:pic>
          <p:nvPicPr>
            <p:cNvPr id="75" name="41_High Flyers_m" descr=""/>
            <p:cNvPicPr/>
            <p:nvPr/>
          </p:nvPicPr>
          <p:blipFill>
            <a:blip r:embed="rId5"/>
            <a:stretch/>
          </p:blipFill>
          <p:spPr>
            <a:xfrm>
              <a:off x="6732720" y="4581360"/>
              <a:ext cx="205740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"/>
            <p:cNvSpPr/>
            <p:nvPr/>
          </p:nvSpPr>
          <p:spPr>
            <a:xfrm>
              <a:off x="6443640" y="5878440"/>
              <a:ext cx="2449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1200" spc="-1" strike="noStrike">
                  <a:solidFill>
                    <a:srgbClr val="ffffff"/>
                  </a:solidFill>
                  <a:latin typeface="Arial"/>
                </a:rPr>
                <a:t>Steve Fossett &amp; Bertrand Piccard</a:t>
              </a:r>
              <a:r>
                <a:rPr b="0" lang="fr-CH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108000" y="6467400"/>
            <a:ext cx="250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"/>
          <p:cNvGraphicFramePr/>
          <p:nvPr/>
        </p:nvGraphicFramePr>
        <p:xfrm>
          <a:off x="685800" y="609480"/>
          <a:ext cx="7772400" cy="5505480"/>
        </p:xfrm>
        <a:graphic>
          <a:graphicData uri="http://schemas.openxmlformats.org/drawingml/2006/table">
            <a:tbl>
              <a:tblPr/>
              <a:tblGrid>
                <a:gridCol w="1492200"/>
                <a:gridCol w="1841400"/>
                <a:gridCol w="3586320"/>
                <a:gridCol w="852480"/>
              </a:tblGrid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Discipli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No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Performanc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Pay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53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Aérostat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Bertrand Piccar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r>
                        <a:rPr b="0" lang="fr-FR" sz="900" spc="-1" strike="noStrike" baseline="30000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er</a:t>
                      </a: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 Tour du monde en ballon+ records altitude et durée en 19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C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Aerostation (gaz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JF &amp; V Ley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Vainqueurs de4 coupes Gordon Bennet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Astronomi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Audoin Dollfu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Aviation G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Steve Fosset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Tour du monde en ballon  et en avion en solo et sans escal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US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Espac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Valery Poliakof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Vol spatial prolongé 437 jours 18 heur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Ru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39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Buzz Aldri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1er équipage sur la lun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US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Giraviat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Jean Boule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Record du monde d'altitude en hélic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gral Valérie André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Nombreuses missions de sauvetag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Parachutism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Cheryl Stearn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multiples records du monde en chute libr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US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5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Parachutism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BJ Wort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créateur du saut en "free style" et "canopy piloting", organisateur des + grands evenements de parachutisme.  Cascades de James Bon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US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Vol à Voil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Klaus Ohlman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Plusieurs records du monde, dont celui 3000 k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Vol Libr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Manfred Ruhme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Champion du Monde en 1999 et d’Europe en 1998. + CdM Speedgliding 2003 + record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Au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Voltige en planeu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Jerzy Makul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6 X champion du monde et 2 X d'Europe en voltige planeu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Pol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Voltige av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Catherine Maunour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2 fois CdM Voltig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F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 </a:t>
                      </a: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Voltige avi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Svetlana Kapanin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5 fois CdM Voltig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Ru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UL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Mike Blyth + Olivier Auber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Plusieurs records du monde et voyages en pendulair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SA + C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MT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Luc Trulleman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routeur des courses en ballo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900" spc="-1" strike="noStrike">
                          <a:solidFill>
                            <a:srgbClr val="ffff00"/>
                          </a:solidFill>
                          <a:latin typeface="Verdana"/>
                          <a:ea typeface="Times New Roman"/>
                        </a:rPr>
                        <a:t>B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9" name=""/>
          <p:cNvSpPr/>
          <p:nvPr/>
        </p:nvSpPr>
        <p:spPr>
          <a:xfrm>
            <a:off x="1835280" y="836640"/>
            <a:ext cx="662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124000" y="1427040"/>
            <a:ext cx="633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09960" y="2535120"/>
            <a:ext cx="633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125800" y="3011400"/>
            <a:ext cx="633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22560" y="5070600"/>
            <a:ext cx="633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1125360"/>
            <a:ext cx="777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ACA FAI 31st Plenary meeting 200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87A24-5153-4A9A-84DB-897CD3A03834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57A1C8-9329-48E7-8233-B46D57FB5B4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466560" y="403560"/>
            <a:ext cx="82090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00"/>
                </a:solidFill>
                <a:latin typeface="Times New Roman"/>
              </a:rPr>
              <a:t>Lausanne 27/28.August. The EAS was present there to inform about the amateur built section of aviation, the public interest was very high and a lot of interest was generated, we had inside an aircraft under construction (Kitfox) and a Bruegger Colibri, outside in the static display was a Slepcev Storck, a Cherry and a RV-6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658880" y="2276640"/>
            <a:ext cx="5826240" cy="3735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ACA FAI 31st Plenary meeting 200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FF715-432C-411B-BE8A-F68D2648A757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ADB28C-4BCA-4D7A-9B8F-1C371EE7A47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ffff00"/>
                </a:solidFill>
                <a:latin typeface="Times New Roman"/>
              </a:rPr>
              <a:t>MERCI 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ffff00"/>
                </a:solidFill>
                <a:latin typeface="Times New Roman"/>
              </a:rPr>
              <a:t>FAI thanks the Aero Club de France for helping us to celebrate the Centenary in style, and for hosting the CIACA mee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ACA FAI 31st Plenary meeting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8B4D7-2F93-4EC5-BFDA-54CFF3D8E01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ADCDD8-D288-4337-AB9F-1893A15A97E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00"/>
                </a:solidFill>
                <a:latin typeface="Times New Roman"/>
              </a:rPr>
              <a:t>New economic racing class p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roject </a:t>
            </a:r>
            <a:br>
              <a:rPr sz="2400"/>
            </a:b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(part of the Bleu Citron progr.)</a:t>
            </a:r>
            <a:br>
              <a:rPr sz="2400"/>
            </a:b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 Presented by Mr. Frédéric Hubschwerlen</a:t>
            </a:r>
            <a:br>
              <a:rPr sz="40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334800" y="1197000"/>
            <a:ext cx="4237200" cy="25588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4714920" y="1197000"/>
            <a:ext cx="4238640" cy="25606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395280" y="3905280"/>
            <a:ext cx="4176720" cy="25225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4740120" y="3906720"/>
            <a:ext cx="4176720" cy="2522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ACA FAI 31st Plenary meeting 200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08CA7-4972-403C-A835-8E22DEEBC20F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1BA0DA-65FF-47C3-B3F8-A5DB08E5DBC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33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CIACA Web Si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First experience with the CMS  (From Werner Schneider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-we have finally access to add, edit content on the webpage, we can als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add more editors by ourself,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this is a real progres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-the first steps were promising (I was able to add some content) 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Thierry does this as a course I have not yet all information I wou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like to have but thats just a matter of 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-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the ill fated non working database is finally gon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The CMS is very powerful and does help to align content in a way th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the web has a corporate design, this is a very good move. We will se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how this develops and I hope the approach to have from each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each year at least one little story to present will make the CIACA We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more aliv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IACA FAI 31st Plenary meeting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86ABB-8802-4A60-94D8-17A762B3C669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95307C-32C9-46E6-AA36-8F917CE055D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8T16:15:20Z</dcterms:created>
  <dc:creator>UAA15B0</dc:creator>
  <dc:description/>
  <dc:language>en-US</dc:language>
  <cp:lastModifiedBy> </cp:lastModifiedBy>
  <dcterms:modified xsi:type="dcterms:W3CDTF">2006-08-22T13:59:23Z</dcterms:modified>
  <cp:revision>100</cp:revision>
  <dc:subject/>
  <dc:title>Presentazione di PowerPoint</dc:title>
</cp:coreProperties>
</file>